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B70-DD12-4ECE-8621-77FC2EAB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C71-743C-44CC-9624-A942D5BC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4EDDC-FDDA-485A-9699-B2F145F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E2191-E15D-4C30-B70F-4020203D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0757B-CF7C-428B-91E8-926EDFB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4EC94-3C40-40A6-8277-480BC6F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25C87-D3FF-4A4A-B987-76DB3EC1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6C7B0-7388-46FF-B736-BBF47492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AF376-218B-4BD5-A59F-741DF8B6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88625-16A0-4F57-94D9-908ACC78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4B024-3B75-4DF2-B143-A9E5502B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B753E-034B-4648-9B00-157364A3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727-D608-493C-8B15-BAEC3D72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3ECD9-6DB8-46B1-A39C-C0738E6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39DD4-F2DD-402A-9F67-2F7F143F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CA2DD-DB14-4DBB-B3F2-A2DE005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8BBFB-B936-4945-8565-3440600E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F2A4-67C3-4131-8214-A157515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29369-3F32-41B3-934F-94C1026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AEE0-8C15-4182-9CBB-BC3392D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CBE20-94D5-4001-8E0C-2A36B43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FF2A9-F5B9-47EB-8308-6D41502A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B43EE-70AF-4ADC-A257-1D1B4950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05D-A761-4AD7-91F2-55A9A45A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7BA12-44F3-460F-B469-B827A589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0AB43-AD45-4143-8301-3CDDC0BF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9338-736E-489A-8873-E962DD64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EB2B2-7A7C-4A6C-AC90-C9FFC288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CEB0C-57BB-4296-B22F-E4084CE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1752-B76D-4A9A-91DC-9AA8ED8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6D8CA-4405-49CA-9B3A-4BD672F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0259A-AE61-4DAA-8D25-15B49DB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29A0A-2A31-4AC6-B902-BD0E8A10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617D4-38E1-48BE-9D06-8188FE0B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577F-3918-4847-A891-869E8769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3DD8-2E89-4184-B95D-55FE2F6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C38B0-D8A0-4D11-A6D3-B392E72F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D7640-7858-4EC6-A385-26907F7D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8A527-8BED-4E49-9B0C-4BA74921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394D-4D90-483F-AAED-AA481A91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10908-2C15-410F-BC22-A777967A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6F8D7-C936-4825-BB64-833DA90C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F4A65-F3F3-4379-A7A9-AA2E12A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6F004-998D-4A97-AE58-D68D999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01CE4-2CDD-46E8-9E04-7334EDE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E059-3862-4917-9546-E50AD25E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A7BB0-6B34-4EE7-86A9-F0985A91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51697-1CCD-4F9A-9446-6F5BC8D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684D5-FC01-41FA-9234-3D4F2979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1E4F6-D972-4D86-A29F-28752F94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4B960-711C-4037-8BC6-612DD6AF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92218-C7CF-4C47-AD12-85413028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2CED5-C5AD-4844-A02D-F0A34326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89511-2CD0-44D4-9C47-5D6CA7F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C1DFD-970F-44A6-81B4-3C4F51B4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1CCF7-56B6-40EA-8CF3-1F7BB172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C6A-CD85-4854-BD26-12E88BB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733E1-4EC0-4539-B4D5-006AC1B2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A8BC2-6E73-4910-8D2B-D736532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5BC02-0FEC-4669-A74C-F2AAC886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BD6B6-D7A9-44DA-8170-7BC7B750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6D08A-B43B-487A-9669-7DB2DAE7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51999-4463-45EB-9884-A111A88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2B8EF-9B50-43C9-8895-D255B19D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CF9832-63F1-41A6-A4D7-CD40E3B9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F74DA-3AD0-4FDE-96FE-3E09FF4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50792-1683-4166-AC4E-9D8190D8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9499-56E4-427D-810C-D51AF68C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DE450-2D9E-4D9E-AEE7-A8E1ED55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056BC-B00E-4E60-A304-6790F45E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E557F-89DE-4F64-8BB5-61A018B8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C622B-5E18-45D6-8909-6B076357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C46A2-FFF1-4EE2-B10B-41F0921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EEAD6-B2EF-4954-B7F0-1987D776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5D88D-D5D5-4D60-A322-F9AF1215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7F1D6-47EB-4A55-A72A-E1E83255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5B106-19EA-4346-B715-54285300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37C08-84C6-45E0-BB19-076D1443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176D-E29D-4E20-937C-E0DFDD6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B38F8-9DAC-4C95-BD46-1E8D52AB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D12E0-FA3D-4A13-8415-39D4B55E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A18A4-E274-431F-9806-34322D90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07B72-D8F6-43B4-8B5E-92347D09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58487-1997-44ED-BAAF-26E970CF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251A4-2DDD-4AD6-8298-64F2BC2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AC1BA-886A-427A-AA2C-1DE5F779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262B6-07FF-4E05-8E60-21737DB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EA184-1ABE-4A6B-9549-D9D492B0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9ACB8-EC05-40B4-9865-C322BFE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B189-98D4-4392-8D96-5DEF987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3C914-E7E6-4F12-9AA7-B4E52559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19BFF-4D98-4295-9ADA-589D5B54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A59B5-09D4-47C0-B46B-6C29897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40576-FE4F-442A-AE32-D3FAECA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BDB0A-2998-4CD2-848B-FEF05C17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812D3-EEB6-4C5D-9C09-FD7DB9C8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52916-049A-4C32-8476-E146698D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596CC-F6BF-4050-93F7-AF4B15A7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398A8-CFA9-4405-B4C4-2D4A4FC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63249-54AE-4D39-B369-A6DBA9E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0884-5350-4493-9A04-EF7AE93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3C522-5E00-473C-8832-E9737ACB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7E457-5184-44B9-999E-B34944AB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AAF6F-59BA-4E03-9DB1-C004AB8B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2DC98-5B8D-48B2-AEA5-9653E090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AC0B2-9F19-41E3-A1C6-D496CD22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567E0-5AA5-47E2-AF52-D8F2FD2B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A47C7-BAC0-4287-A300-A6D54AD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FE8DC-9C29-4F28-81F9-DCDDBA6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66D5B-33C9-4C4E-8BBA-598D842C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831FF-C851-4C8A-B6E7-7D246E3C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F22-2FF9-46FF-8B91-D3F81F6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A0B-CFE9-4211-A85A-3A8323B9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20007-DE8B-46CB-98D2-BD0CA4C4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46135-9D14-40BB-A7EC-54480D9C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9FDBC-2BA4-4AF7-B040-F187794B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96FB9-7B4E-4B56-98CE-EFDA273A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5AE8D-9D83-4184-95EB-C0C6C055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2B657-A7E4-45C1-94AF-999FEAEB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E47BF-CF5A-4B8A-9040-4DF2C22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5AF32-A8E8-4EB3-8521-87EDEFD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025DA-AADD-49D2-827B-FFB59E36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0CE85-7CCF-46EE-ABC8-243B3213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B3A0-82B3-413F-9982-3FD42FD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16979-A9BF-47D2-A882-F1D7292F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19E99-2281-4E7F-B077-C20873B5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602639-37F1-451E-8F07-5BDCD4C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45919-225C-415C-8996-C4373D8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40948-8B9B-4C73-8640-70BA75F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C5B9C-0906-490F-8F46-57E17E97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4422C-D1EC-4A70-B4F4-EAFF97A6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ED6ECF-127F-4E74-A763-4C20CD07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31DE0-0203-4121-AC6D-02451844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74164-15FA-4C82-9AA4-993D65A4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341-6492-4510-A5B1-EFDEFE85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52815-8E2F-4FA0-9D27-91E719B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4F5D0-81B6-4AEA-881F-9FBEC777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B8583-1D76-4968-BAD2-66FB18D9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B8561-E4BB-430F-ACF0-600318B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D86D4-9310-4001-B8DF-FFCC35B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0DAA8-11F3-426C-BC57-8D34212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6292D1-B22F-4217-AC3C-0736725D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0BE6C-986D-4570-BE67-AC3CA8E2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054BE-1098-4073-9474-8D8917D3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7B858-047F-4C7B-9CE8-A52430E2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2CC-658C-4AA6-8882-80533182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269E6-D258-4992-80EC-9E943E0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F7D85-4AED-452C-A25A-05D8109D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AED0D-9FC1-4B9D-8F9A-F823175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3DC1D-E9F3-4402-9F96-8E7306C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FBA2D2-73DF-4FE3-9DAC-7805DBC7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E608F-2303-4FC3-B13C-35F624A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DB0325-3032-4242-9B6D-2A440DA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13DC9-9069-4B13-9122-1C827ED8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3819D-40A5-4107-8D04-2912FD86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6D776-8705-4901-A315-D57651A1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BA6B-E165-4191-BD3C-3C757E38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6114C-59F6-48B9-915F-41987DF8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07A568-879B-4E7D-B036-B3A3B5C2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04A97-3187-452C-A157-B4D378E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A2F7F-111C-443A-9A79-DD9627E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5F77D-B36E-4153-8E75-5D4DD4FB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8401C2-CB58-4800-9017-CC6BB7E5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7B3780-4F74-46AB-AAF4-26A68CD5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CAEB6-B999-42EA-A14A-AAB81B38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CAD5B-F389-4D95-A837-97B4DC5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4D863-DA6C-4355-9EEE-F3D59BC0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E1D9-F860-4B15-A048-22E32B1B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92673-B2D0-4FF3-B293-B7BD23B2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84F23-A2AA-4ABA-83B9-C442076C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81474-CD35-40BF-8278-95AC9187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A309-0F85-4208-9A3D-F2A1F5C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0486-DF49-4302-9381-23DCA6D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84DA-9D34-40F4-B168-2DB9C21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A862-F580-4EF3-8E4C-8C3451E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C7B-4EE3-4A4D-84C8-FBAE93E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F8B9-4F48-4F4D-8279-5F86E3BC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0D69-AE71-4756-B644-A6D4170C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B152-9930-42A3-AB8E-1F8E9DE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7D7D-B77B-4997-A402-C6C217C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2EED-C790-46D0-8400-ED1A3C76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EEB6-D070-44B2-A011-2B3AF1FE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0308-D5E4-443F-9274-E6F669D4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4B82-A6AB-4080-8428-17FBB568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4FB1-5240-469A-9F7F-E304E3B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B983-CE51-4A8C-ABDD-1F6CBB6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1E6-C0BC-4430-8FD2-755A3AE2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32DD7-C408-4588-84BA-5EED0CF6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6A3B-3915-424B-A40D-179C704D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3264F-F464-4D94-A379-E388531F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4169-DBF1-44E1-ACD5-4ADEDBD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41F4-B6ED-432B-AC83-FC62C24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EEF3-543D-4C39-8325-865D096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2D56-D7E3-43A0-A284-7D6FDDD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522F-2592-4CA1-B923-56C29F19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9CCE-817E-44F8-812F-692DF497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0EBC-33A5-48D2-BB5A-551C1306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608-419D-4F08-A3B2-5108F69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F704-2727-4396-AE5D-F728E16C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0CF1-1433-492F-87D2-04659646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79F2-569B-4662-84EF-5B7696D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1291-01D3-43CF-9AA9-7AAFC516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5CD6-C214-4A1E-9BDD-DEB301A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677E-983F-43F2-9E60-EAC539F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D34CB-E9C8-4856-902E-AE96233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F87D-43DF-43CC-9EB8-6369AF01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3361-8685-4BA2-BE1D-F700769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57E3-8BA4-4454-8093-04D0C7DC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01C-E143-41A7-B998-9985277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C29C-C74A-4B11-962C-AB10FC35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142B-D4CC-4185-86D8-4765905B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FC424-CAB0-4016-A0AB-0F785E62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3887F-0454-44F2-A4D8-8BC829E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23E2-6499-4D2F-83C0-F723246F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A98E5-195F-48DE-8C49-4F35A4F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10EB-4D99-4FA2-8059-30E6BDE9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E555-D848-4C0D-94EA-DE864CB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B818-FECE-48AF-822A-BBBFF95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FC070-CF91-4D1F-A586-4F8A1FD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33C-7CA9-439C-9F0D-92C9B82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C277-F0C6-48B8-A63E-CAF5332F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4492-545B-4989-8877-67BAB647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72CAB-AA36-4534-8AEF-87E73C83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3988C-76AC-4DDD-934E-C2A355E3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088C8-8DB7-4CB5-9F4C-98EA3EA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8655-7A53-42E8-9F75-657B3DE7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A4A0-0BD1-43C3-BE64-7E10BED6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C6DA-E097-4A1F-A503-6D57707C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B0EFE-A89B-486D-8F31-BD80CCED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C9A93-98F1-40D6-B34D-3307C138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AB8-0240-46B7-8FC2-82132B5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B40C-53DF-48E5-A94D-BD51EB47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A6BE7-BAEA-431D-94C0-C85789C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89C36-D3A0-4CC4-A9AA-5F34E31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A554-5EC6-47C1-806C-2E56D178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0E098-64CB-419E-B13A-EB6A415B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709A1-E87A-4194-8743-7525BBC7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08DF-458A-4B6B-9203-D327EE88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7097C-7A22-4DB5-BA00-3282E623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CEAAB-2F99-423F-AFE6-E78B6EF9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A1B6-3ABE-49C2-A507-41143220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195-180D-44D2-8169-6DB076B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2235-E56E-4F7E-B67D-1D73EF8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5B9D9-87B3-406A-B659-15328DA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E784C-EF8C-4441-8687-E6BC745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39544-09F9-4568-A47D-31A1B1D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3F273-F3A6-4386-8EE6-8E9717C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5FC02-CB44-48CC-BFDD-B53546BC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1B69-A057-446C-9358-B3FFBCD1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66D54-070B-4CD2-BB85-CA8CC850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3EEAA-C6DD-4ADB-BF9C-DF0BF79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45759-6B47-424C-BE2C-234772A2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9FE2-1D59-410B-801E-E4E32FC759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4BBB-ACAF-476D-A753-F38B5625A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7339-8155-4A58-A08E-5DAD6FCDF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62A6-256A-482C-BDB6-CB88CA2AC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C63-1F8E-4AAC-A366-600B51EE33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A619-28F2-4CFA-BAA0-647226A1C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5366-7452-4F5A-ADE1-55BE173F9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F28D-02FD-48F0-8A32-DD8AEE88C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E8C0-249D-4CBF-A59C-DA8FAF7D8A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577-3989-499F-A759-1F64EBDF98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902-FC55-4D63-B39A-56A6FC7B4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3793-476B-468D-9A07-BF79AE30B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56F-DE4F-4033-9757-1A471C33AF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96A2-3E2D-4F41-887A-79C6BB5DF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B250-08A4-4014-9E8C-7ED2DB1F9F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3BDA-5E4B-4338-8F93-80735BC04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C6F2-1A62-466C-9201-3B6E6AD91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CFE-9E28-4365-A0E2-C9387B0708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EFBD-FC3D-4DB1-B857-E6E4D0A50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322-AC9F-4846-A78E-0D6426D01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AFA-40E4-46D6-B8D1-7DD552572F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BFF-F4C9-43A9-B099-78D69F16E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773B-1174-4D35-A487-66304C345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E2AC-9E89-4E36-99D3-C78E99CB6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491D-A9D0-4F85-A809-86EFF4860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F10-E504-4326-BE83-D113C6878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63F1-714E-41D7-89F2-B33DEC5E2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4EDB-6F56-4A3D-A579-B861748A4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223-9E5C-4FCF-912A-5CA271921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058-ACF0-4D93-A9DA-FB893BF37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9CC-0CBC-4CFB-81A1-4DC5964A8D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17CC-DA49-46A3-A9B5-6F2ACDA98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C72-F61E-46A9-8F14-97E52B61BB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C0A7-AA18-4F2A-8172-D7B9B0E426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D32A-A3E8-4726-B80E-2DAE09978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0C6-810A-4D17-A94A-7A5C1C047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8201-58EF-4689-9971-7CAB02D85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89C9-5CC5-4D1E-BB6D-3624C27AF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537-3261-448A-9CAC-036049646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D7F4-F24B-4C3A-A6DD-60C851B2EF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47800" y="3224160"/>
            <a:ext cx="38484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71400" y="1504800"/>
            <a:ext cx="7801200" cy="384840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4370400" y="4019400"/>
            <a:ext cx="1762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309600" y="1257480"/>
            <a:ext cx="8524800" cy="4343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1461960" y="4524480"/>
            <a:ext cx="70567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181080" y="1681200"/>
            <a:ext cx="8781840" cy="349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55640" y="4267080"/>
            <a:ext cx="936720" cy="301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654200" y="472932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987640" y="4267080"/>
            <a:ext cx="936720" cy="3016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3767040" y="473724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5173560" y="4267080"/>
            <a:ext cx="93672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5952960" y="473724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7232760" y="4267080"/>
            <a:ext cx="936360" cy="301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8231040" y="473724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9:4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